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png" ContentType="image/png"/>
  <Override PartName="/ppt/media/projctor.wav" ContentType="audio/x-wav"/>
  <Override PartName="/ppt/media/image24.jpeg" ContentType="image/jpeg"/>
  <Override PartName="/ppt/media/camera.wav" ContentType="audio/x-wav"/>
  <Override PartName="/ppt/media/image21.png" ContentType="image/png"/>
  <Override PartName="/ppt/media/clap.wav" ContentType="audio/x-wav"/>
  <Override PartName="/ppt/media/image19.png" ContentType="image/png"/>
  <Override PartName="/ppt/media/image14.jpeg" ContentType="image/jpeg"/>
  <Override PartName="/ppt/media/image16.png" ContentType="image/png"/>
  <Override PartName="/ppt/media/image13.gif" ContentType="image/gif"/>
  <Override PartName="/ppt/media/image11.png" ContentType="image/png"/>
  <Override PartName="/ppt/media/image15.png" ContentType="image/png"/>
  <Override PartName="/ppt/media/image12.gif" ContentType="image/gif"/>
  <Override PartName="/ppt/media/carbrake.wav" ContentType="audio/x-wav"/>
  <Override PartName="/ppt/media/drumroll.wav" ContentType="audio/x-wav"/>
  <Override PartName="/ppt/media/whoosh.wav" ContentType="audio/x-wav"/>
  <Override PartName="/ppt/media/image25.png" ContentType="image/png"/>
  <Override PartName="/ppt/media/image4.jpeg" ContentType="image/jpeg"/>
  <Override PartName="/ppt/media/image17.png" ContentType="image/png"/>
  <Override PartName="/ppt/media/image27.jpeg" ContentType="image/jpeg"/>
  <Override PartName="/ppt/media/image10.png" ContentType="image/png"/>
  <Override PartName="/ppt/media/image31.pct" ContentType="image/x-pict"/>
  <Override PartName="/ppt/media/image34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8.gif" ContentType="image/gif"/>
  <Override PartName="/ppt/media/image37.jpeg" ContentType="image/jpeg"/>
  <Override PartName="/ppt/media/image26.png" ContentType="image/png"/>
  <Override PartName="/ppt/media/image38.png" ContentType="image/png"/>
  <Override PartName="/ppt/media/image39.jpeg" ContentType="image/jpeg"/>
  <Override PartName="/ppt/media/image40.pct" ContentType="image/x-pict"/>
  <Override PartName="/ppt/media/image28.png" ContentType="image/png"/>
  <Override PartName="/ppt/media/image7.jpeg" ContentType="image/jpeg"/>
  <Override PartName="/ppt/media/image20.png" ContentType="image/png"/>
  <Override PartName="/ppt/media/type.wav" ContentType="audio/x-wav"/>
  <Override PartName="/ppt/media/image6.jpeg" ContentType="image/jpeg"/>
  <Override PartName="/ppt/media/image18.png" ContentType="image/png"/>
  <Override PartName="/ppt/media/image29.pct" ContentType="image/x-pict"/>
  <Override PartName="/ppt/media/image9.gif" ContentType="image/gif"/>
  <Override PartName="/ppt/media/laser.wav" ContentType="audio/x-wav"/>
  <Override PartName="/ppt/media/image1.gif" ContentType="image/gif"/>
  <Override PartName="/ppt/media/image2.png" ContentType="image/png"/>
  <Override PartName="/ppt/media/image32.png" ContentType="image/png"/>
  <Override PartName="/ppt/media/image3.png" ContentType="image/png"/>
  <Override PartName="/ppt/media/image30.pct" ContentType="image/x-pict"/>
  <Override PartName="/ppt/media/image3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A15-1297-4A8F-B9D0-63C137EA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0BC-3250-49A4-B2AE-6B5CF560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634C-946C-4BE5-A50B-B1562746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2FB-C09F-400D-9309-17F4F08E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094B-3E9A-40EF-B6CF-7E2EACE5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9ACD-5556-445E-8C2A-CEDB9F5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3FD7-1F0E-49D4-BA3B-F70E1693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423F-3F31-4628-A381-AFED87B0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EF06-560F-4154-BA8C-B92DD1C1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0572-F2B7-464D-BBF2-CF4EFC2D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101D-376B-4A06-B5B8-54BA764E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387-2F80-4591-A158-013CB74C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CBD0-70B8-4FB0-B379-F4D922F8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A32B-C409-4C9C-856B-8BE28EC2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94B7-A0D5-4324-A9F3-8F882F96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6F65-90BA-4166-820F-9BCA30FF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9743-646E-4794-9A54-526ACF43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563-357F-4DE3-A1EC-49703237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DDD-7254-4E7D-9FEF-20D5477F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AD5-45F0-4F02-A450-F4B20EF8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28C-C2B1-4CBB-91DF-5F246FA7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178-2C5B-4063-A954-C57093D7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2F3-3CD2-4CEF-8AB3-E1E9284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620-4C10-4A40-804E-273B03FA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C8C1-F33C-41E7-A85E-75A36B760DF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7694-2503-4529-89CC-A3B2AB8E30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FAE4-DC17-495D-8DAA-56660F2D678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D752-56A0-4B41-8702-FE7A7D83D7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rl.org/formats/gifs/division.gif" TargetMode="External"/><Relationship Id="rId2" Type="http://schemas.openxmlformats.org/officeDocument/2006/relationships/image" Target="../media/image19.png"/><Relationship Id="rId3" Type="http://schemas.openxmlformats.org/officeDocument/2006/relationships/audio" Target="../media/whoosh.wav"/><Relationship Id="rId4" Type="http://schemas.openxmlformats.org/officeDocument/2006/relationships/audio" Target="../media/laser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ct"/><Relationship Id="rId3" Type="http://schemas.openxmlformats.org/officeDocument/2006/relationships/image" Target="../media/image30.pct"/><Relationship Id="rId4" Type="http://schemas.openxmlformats.org/officeDocument/2006/relationships/image" Target="../media/image31.pct"/><Relationship Id="rId5" Type="http://schemas.openxmlformats.org/officeDocument/2006/relationships/image" Target="../media/image32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33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34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8.png"/><Relationship Id="rId40" Type="http://schemas.openxmlformats.org/officeDocument/2006/relationships/image" Target="../media/image18.png"/><Relationship Id="rId41" Type="http://schemas.openxmlformats.org/officeDocument/2006/relationships/image" Target="../media/image18.png"/><Relationship Id="rId42" Type="http://schemas.openxmlformats.org/officeDocument/2006/relationships/image" Target="../media/image18.png"/><Relationship Id="rId43" Type="http://schemas.openxmlformats.org/officeDocument/2006/relationships/image" Target="../media/image18.png"/><Relationship Id="rId44" Type="http://schemas.openxmlformats.org/officeDocument/2006/relationships/image" Target="../media/image18.png"/><Relationship Id="rId45" Type="http://schemas.openxmlformats.org/officeDocument/2006/relationships/image" Target="../media/image18.png"/><Relationship Id="rId46" Type="http://schemas.openxmlformats.org/officeDocument/2006/relationships/image" Target="../media/image35.png"/><Relationship Id="rId47" Type="http://schemas.openxmlformats.org/officeDocument/2006/relationships/image" Target="../media/image35.png"/><Relationship Id="rId48" Type="http://schemas.openxmlformats.org/officeDocument/2006/relationships/image" Target="../media/image18.png"/><Relationship Id="rId49" Type="http://schemas.openxmlformats.org/officeDocument/2006/relationships/image" Target="../media/image18.png"/><Relationship Id="rId50" Type="http://schemas.openxmlformats.org/officeDocument/2006/relationships/image" Target="../media/image36.png"/><Relationship Id="rId51" Type="http://schemas.openxmlformats.org/officeDocument/2006/relationships/audio" Target="../media/whoosh.wav"/><Relationship Id="rId5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ct"/><Relationship Id="rId3" Type="http://schemas.openxmlformats.org/officeDocument/2006/relationships/audio" Target="../media/clap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audio" Target="../media/projcto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audio" Target="../media/laser.wav"/><Relationship Id="rId4" Type="http://schemas.openxmlformats.org/officeDocument/2006/relationships/audio" Target="../media/whoosh.wav"/><Relationship Id="rId5" Type="http://schemas.openxmlformats.org/officeDocument/2006/relationships/audio" Target="../media/laser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ffff00"/>
                </a:solidFill>
                <a:latin typeface="Arial Narrow"/>
              </a:rPr>
              <a:t>MUSCLES</a:t>
            </a:r>
            <a:endParaRPr b="1" lang="en-US" sz="1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3276720"/>
            <a:ext cx="3352680" cy="239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6FF-53CE-4DB3-8A73-7BE6767F770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FA07F-4311-4DD1-95A1-F2B0E6EC8A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79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mile or Frown?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057400"/>
            <a:ext cx="6705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17 muscles to smile and 43 muscles to fr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takes 26 muscles to smile and 62 muscles to fr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36680" y="2544840"/>
            <a:ext cx="4670280" cy="1768320"/>
            <a:chOff x="2236680" y="2544840"/>
            <a:chExt cx="4670280" cy="1768320"/>
          </a:xfrm>
        </p:grpSpPr>
        <p:sp>
          <p:nvSpPr>
            <p:cNvPr id="141" name=""/>
            <p:cNvSpPr/>
            <p:nvPr/>
          </p:nvSpPr>
          <p:spPr>
            <a:xfrm>
              <a:off x="2236680" y="2544840"/>
              <a:ext cx="467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36680" y="2544840"/>
              <a:ext cx="4500720" cy="17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8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36680" y="2620800"/>
            <a:ext cx="4670280" cy="1616040"/>
            <a:chOff x="2236680" y="2620800"/>
            <a:chExt cx="4670280" cy="1616040"/>
          </a:xfrm>
        </p:grpSpPr>
        <p:sp>
          <p:nvSpPr>
            <p:cNvPr id="145" name=""/>
            <p:cNvSpPr/>
            <p:nvPr/>
          </p:nvSpPr>
          <p:spPr>
            <a:xfrm>
              <a:off x="2236680" y="2620800"/>
              <a:ext cx="46702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36680" y="2620800"/>
              <a:ext cx="45007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en-US" sz="8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           </a:t>
              </a: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43800" y="3808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" y="5029200"/>
            <a:ext cx="7467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hat conclusion can we make from these two statement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1295280" cy="128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12A5-2878-4676-BD64-4493DDC4CF7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782949C-D6C1-48D4-A9EC-ED20FC4B34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 Narrow"/>
              </a:rPr>
              <a:t>What are muscles made of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20574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-868" b="48247"/>
          <a:stretch/>
        </p:blipFill>
        <p:spPr>
          <a:xfrm>
            <a:off x="2362320" y="2666880"/>
            <a:ext cx="5029200" cy="3451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38080" y="129528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uscles are made of hundreds of tiny fib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B9E-E050-4304-B65C-87AB53D8E41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10889-456B-498E-9E2C-ECABB37627BD}" type="datetime1">
              <a:rPr lang="en-US"/>
              <a:t>07/28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Arial Narrow"/>
              </a:rPr>
              <a:t>Can you feel some of your muscles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ld a book in front of you. Where in your arm do you feel the muscles mo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28195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ve your neck from left to right and up and down. What do you fe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39625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Arial"/>
              </a:rPr>
              <a:t>Move your fingers around. Where do you feel those muscles mov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510552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nd on your toes. Do you feel the muscles in the back of your leg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44DD-5796-433B-A28A-75AEAD99F8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D0CA4-0D63-47C3-AC45-7BF3292C6221}" type="datetime1">
              <a:rPr lang="en-US"/>
              <a:t>07/28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 Narrow"/>
              </a:rPr>
              <a:t>Muscles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, </a:t>
            </a:r>
            <a:r>
              <a:rPr b="1" lang="en-US" sz="5000" spc="-1" strike="noStrike">
                <a:solidFill>
                  <a:srgbClr val="ffffcc"/>
                </a:solidFill>
                <a:latin typeface="Arial Narrow"/>
              </a:rPr>
              <a:t>Muscles,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Muscles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4580" t="32817" r="12502" b="10939"/>
          <a:stretch/>
        </p:blipFill>
        <p:spPr>
          <a:xfrm>
            <a:off x="1295280" y="2590920"/>
            <a:ext cx="2667240" cy="274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14580" t="29621" r="10977" b="42257"/>
          <a:stretch/>
        </p:blipFill>
        <p:spPr>
          <a:xfrm>
            <a:off x="4724280" y="2133720"/>
            <a:ext cx="272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rcRect l="18754" t="32750" r="6251" b="25066"/>
          <a:stretch/>
        </p:blipFill>
        <p:spPr>
          <a:xfrm>
            <a:off x="5943600" y="4114800"/>
            <a:ext cx="27432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-1327320" y="2182680"/>
            <a:ext cx="11798280" cy="2438280"/>
            <a:chOff x="-1327320" y="2182680"/>
            <a:chExt cx="11798280" cy="2438280"/>
          </a:xfrm>
        </p:grpSpPr>
        <p:sp>
          <p:nvSpPr>
            <p:cNvPr id="164" name=""/>
            <p:cNvSpPr/>
            <p:nvPr/>
          </p:nvSpPr>
          <p:spPr>
            <a:xfrm>
              <a:off x="-1327320" y="2182680"/>
              <a:ext cx="394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-1327320" y="2182680"/>
              <a:ext cx="117982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-1327320" y="2182680"/>
            <a:ext cx="11798280" cy="2438280"/>
            <a:chOff x="-1327320" y="2182680"/>
            <a:chExt cx="11798280" cy="2438280"/>
          </a:xfrm>
        </p:grpSpPr>
        <p:sp>
          <p:nvSpPr>
            <p:cNvPr id="167" name=""/>
            <p:cNvSpPr/>
            <p:nvPr/>
          </p:nvSpPr>
          <p:spPr>
            <a:xfrm>
              <a:off x="-1327320" y="2182680"/>
              <a:ext cx="394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-1327320" y="2182680"/>
              <a:ext cx="117982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-1327320" y="2182680"/>
            <a:ext cx="11798280" cy="2438280"/>
            <a:chOff x="-1327320" y="2182680"/>
            <a:chExt cx="11798280" cy="2438280"/>
          </a:xfrm>
        </p:grpSpPr>
        <p:sp>
          <p:nvSpPr>
            <p:cNvPr id="170" name=""/>
            <p:cNvSpPr/>
            <p:nvPr/>
          </p:nvSpPr>
          <p:spPr>
            <a:xfrm>
              <a:off x="-1327320" y="2182680"/>
              <a:ext cx="394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27320" y="2182680"/>
              <a:ext cx="117982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5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-1325520" y="2182680"/>
            <a:ext cx="11796840" cy="2438280"/>
            <a:chOff x="-1325520" y="2182680"/>
            <a:chExt cx="11796840" cy="2438280"/>
          </a:xfrm>
        </p:grpSpPr>
        <p:sp>
          <p:nvSpPr>
            <p:cNvPr id="173" name=""/>
            <p:cNvSpPr/>
            <p:nvPr/>
          </p:nvSpPr>
          <p:spPr>
            <a:xfrm>
              <a:off x="-1325520" y="2182680"/>
              <a:ext cx="3946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-1325520" y="2182680"/>
              <a:ext cx="11796840" cy="2438280"/>
              <a:chOff x="-1325520" y="2182680"/>
              <a:chExt cx="11796840" cy="2438280"/>
            </a:xfrm>
          </p:grpSpPr>
          <p:sp>
            <p:nvSpPr>
              <p:cNvPr id="175" name=""/>
              <p:cNvSpPr/>
              <p:nvPr/>
            </p:nvSpPr>
            <p:spPr>
              <a:xfrm>
                <a:off x="-1325520" y="2182680"/>
                <a:ext cx="205272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endParaRPr b="0" lang="en-US" sz="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7200" y="2182680"/>
                <a:ext cx="9744120" cy="24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US" sz="154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-1125360" y="2228760"/>
            <a:ext cx="114120" cy="1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CF19-C6E9-4565-8562-F4E587DA1D5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D052F4E-A992-43D5-8618-E10F6614DD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do muscles need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Muscles need oxygen in order to work properl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When they do not get enough oxygen, they can get sore or cramp up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When the muscles in your heart do not get enough oxygen, you can have a heart atta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2D2-B382-48F2-A545-2B6E995C779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BD4A2-63CD-4E5B-AB36-43E0B2D39B58}" type="datetime1">
              <a:rPr lang="en-US"/>
              <a:t>07/28/26</a:t>
            </a:fld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60948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Are muscles dense?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160020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es - Muscles make up about half of your body weigh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971800"/>
            <a:ext cx="8458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Times New Roman"/>
              </a:rPr>
              <a:t>If Jackie weighed 158 lbs, about how many pounds did her muscles weigh?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71800" y="4114800"/>
            <a:ext cx="44956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5000"/>
              </a:lnSpc>
              <a:spcBef>
                <a:spcPts val="1874"/>
              </a:spcBef>
              <a:buClr>
                <a:srgbClr val="ffff00"/>
              </a:buClr>
              <a:buFont typeface="Times New Roman"/>
              <a:buAutoNum type="arabicPlain" startAt="15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2 = N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158 / 2 = 79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5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N = 79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>
            <a:hlinkClick r:id="rId1"/>
          </p:cNvPr>
          <p:cNvPicPr/>
          <p:nvPr/>
        </p:nvPicPr>
        <p:blipFill>
          <a:blip r:embed="rId2"/>
          <a:srcRect l="28571" t="28808" r="28571" b="28453"/>
          <a:stretch/>
        </p:blipFill>
        <p:spPr>
          <a:xfrm>
            <a:off x="3809880" y="4114800"/>
            <a:ext cx="304920" cy="252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28800" y="5638680"/>
            <a:ext cx="5410080" cy="8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Jackie’s muscles weighed abou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79 pound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8FC5-F049-4555-A1C8-09C43697FDC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B55349B-A6D2-4CAD-8793-00D515C306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6323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9966"/>
                </a:solidFill>
                <a:latin typeface="Arial Narrow"/>
              </a:rPr>
              <a:t>How do muscles</a:t>
            </a:r>
            <a:br>
              <a:rPr sz="5800"/>
            </a:br>
            <a:r>
              <a:rPr b="1" lang="en-US" sz="5800" spc="-1" strike="noStrike">
                <a:solidFill>
                  <a:srgbClr val="ff9966"/>
                </a:solidFill>
                <a:latin typeface="Arial Narrow"/>
              </a:rPr>
              <a:t> move our bones?</a:t>
            </a:r>
            <a:endParaRPr b="1" lang="en-US" sz="5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5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66ff"/>
                </a:solidFill>
                <a:latin typeface="Arial"/>
              </a:rPr>
              <a:t>Do muscles pull or push our bon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2666880"/>
            <a:ext cx="86868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812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cc33"/>
                </a:solidFill>
                <a:latin typeface="Times New Roman"/>
              </a:rPr>
              <a:t>Muscles pull in order to make our bones move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812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cc33"/>
                </a:solidFill>
                <a:latin typeface="Times New Roman"/>
              </a:rPr>
              <a:t>Our muscles usually work in pairs. 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buClr>
                <a:srgbClr val="33cc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cc33"/>
                </a:solidFill>
                <a:latin typeface="Times New Roman"/>
              </a:rPr>
              <a:t>One muscle contracts (pulls) while     the opposite muscle relaxes</a:t>
            </a: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C9D6-170D-45E8-952D-7FB504A0925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2D2397A-F994-4BEF-BA64-6D49EC96A7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26565" t="17124" r="30" b="66"/>
          <a:stretch/>
        </p:blipFill>
        <p:spPr>
          <a:xfrm>
            <a:off x="4419720" y="2057400"/>
            <a:ext cx="3579840" cy="4038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ffffcc"/>
                </a:solidFill>
                <a:latin typeface="Arial Narrow"/>
              </a:rPr>
              <a:t>When your arm is straight: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2133720"/>
            <a:ext cx="35049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Your bicep is relax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Your Tricep is contract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3581280"/>
            <a:ext cx="4572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2286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CA4E-B48D-43FD-B2C1-C0FB69D0283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D9FD6A-A587-48B2-B691-02F0146D6B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 Narrow"/>
              </a:rPr>
              <a:t>When you arm is bent: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18748" r="25000" b="27524"/>
          <a:stretch/>
        </p:blipFill>
        <p:spPr>
          <a:xfrm>
            <a:off x="4114800" y="2209680"/>
            <a:ext cx="4191120" cy="35798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62120" y="2133720"/>
            <a:ext cx="350496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Your bicep is contract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Your tricep is relax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3581280"/>
            <a:ext cx="4572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3886200"/>
            <a:ext cx="22860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3A77-9053-48D8-9717-4D044FC88B8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04438D4-DE9A-4733-B1AA-3EADF165DC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60948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3 Types of muscles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121932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ere are three different types of muscle in our bod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3200400"/>
            <a:ext cx="4419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keletal mus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ooth mus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diac mus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27F-B540-42EF-BC46-B327E229FDC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8BC60-F7A7-4BD1-B206-E05330EFA9CB}" type="datetime1">
              <a:rPr lang="en-US"/>
              <a:t>07/28/26</a:t>
            </a:fld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The human  body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1440" y="124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85800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85D-531C-4693-B46E-0945D5102A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628A0-4AAD-429E-AA88-9B2E28E212C4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keletal muscl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981080"/>
            <a:ext cx="563904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Are voluntary muscles that move bones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Are called striated because they look striped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1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Are attached to tendons, which are attached to bones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19610" t="21878" r="34219" b="-3115"/>
          <a:stretch/>
        </p:blipFill>
        <p:spPr>
          <a:xfrm>
            <a:off x="6324480" y="1752480"/>
            <a:ext cx="198144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2DF5-3861-48A9-AA33-25C200DDFD5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50C24B8-9F5D-400C-98E9-B91FC6A809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keletal Muscle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057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A948-022A-4630-8F4B-4C396C09A49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F13D02D-2EAF-40E5-8536-BC71FE9014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95120" y="456840"/>
            <a:ext cx="3429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endon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7720" y="18288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ndons are tough cords that attach muscles to bone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3657600" cy="3373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Tendons"/>
          <p:cNvPicPr/>
          <p:nvPr/>
        </p:nvPicPr>
        <p:blipFill>
          <a:blip r:embed="rId2"/>
          <a:stretch/>
        </p:blipFill>
        <p:spPr>
          <a:xfrm>
            <a:off x="990720" y="3733920"/>
            <a:ext cx="3124080" cy="237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3670-B2E7-476D-9631-40D53303E5C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5EC8D0D-DA62-4C5A-904F-318F65B08D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mooth Muscle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981080"/>
            <a:ext cx="640080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874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imes New Roman"/>
              </a:rPr>
              <a:t>Are involuntary muscles that make up the    blood vessels, stomach, intestines, and other grou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4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5050"/>
                </a:solidFill>
                <a:latin typeface="Times New Roman"/>
              </a:rPr>
              <a:t>We can not control our smooth musc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4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imes New Roman"/>
              </a:rPr>
              <a:t>What are some example of when our smooth muscles are used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5410080"/>
            <a:ext cx="51055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o digest food, pump blood,vomit, control bladder, and give bi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8000" y="1828800"/>
            <a:ext cx="18097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AC3C-9C35-459A-8B1D-F20866C37364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C61DBA3-1632-4B8E-8F42-74EFCA9C99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80720" y="7621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Smooth Muscle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828800" y="209556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7AB2-2D60-4505-88B5-AE57E12BC841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EE360A-E333-42D3-A73A-ADE6B6DDE0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5715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ccff"/>
                </a:solidFill>
                <a:latin typeface="Arial Narrow"/>
              </a:rPr>
              <a:t>Cardiac Muscle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1676520"/>
            <a:ext cx="58672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ff00"/>
                </a:solidFill>
                <a:latin typeface="Times New Roman"/>
              </a:rPr>
              <a:t>A special kind of involuntary, striated (striped) muscle that makes up the heart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88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ff00"/>
                </a:solidFill>
                <a:latin typeface="Times New Roman"/>
              </a:rPr>
              <a:t>The muscles in the heart contract in order to pump the blood through your body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ff00"/>
                </a:solidFill>
                <a:latin typeface="Times New Roman"/>
              </a:rPr>
              <a:t>If your muscle stops pumping the blood, you have a heart attack.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182520" y="-947880"/>
            <a:ext cx="228600" cy="171720"/>
          </a:xfrm>
          <a:prstGeom prst="rect">
            <a:avLst/>
          </a:prstGeom>
          <a:ln w="0">
            <a:noFill/>
          </a:ln>
        </p:spPr>
      </p:pic>
      <p:pic>
        <p:nvPicPr>
          <p:cNvPr id="221" name="DefaultOcx" descr=""/>
          <p:cNvPicPr/>
          <p:nvPr/>
        </p:nvPicPr>
        <p:blipFill>
          <a:blip r:embed="rId2"/>
          <a:stretch/>
        </p:blipFill>
        <p:spPr>
          <a:xfrm>
            <a:off x="-4653000" y="-4295880"/>
            <a:ext cx="206388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2" name="HTMLSelect1" descr=""/>
          <p:cNvPicPr/>
          <p:nvPr/>
        </p:nvPicPr>
        <p:blipFill>
          <a:blip r:embed="rId3"/>
          <a:stretch/>
        </p:blipFill>
        <p:spPr>
          <a:xfrm>
            <a:off x="-4643280" y="-4295880"/>
            <a:ext cx="215244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3" name="HTMLSelect2" descr=""/>
          <p:cNvPicPr/>
          <p:nvPr/>
        </p:nvPicPr>
        <p:blipFill>
          <a:blip r:embed="rId4"/>
          <a:stretch/>
        </p:blipFill>
        <p:spPr>
          <a:xfrm>
            <a:off x="-4643280" y="-4295880"/>
            <a:ext cx="2241360" cy="12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-4471920" y="-4245120"/>
            <a:ext cx="92160" cy="921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6"/>
          <a:stretch/>
        </p:blipFill>
        <p:spPr>
          <a:xfrm>
            <a:off x="-4560840" y="-3787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7"/>
          <a:stretch/>
        </p:blipFill>
        <p:spPr>
          <a:xfrm>
            <a:off x="-4505400" y="-35434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8"/>
          <a:stretch/>
        </p:blipFill>
        <p:spPr>
          <a:xfrm>
            <a:off x="-4505400" y="-30988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9"/>
          <a:stretch/>
        </p:blipFill>
        <p:spPr>
          <a:xfrm>
            <a:off x="-4464000" y="-2838600"/>
            <a:ext cx="114120" cy="206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0"/>
          <a:stretch/>
        </p:blipFill>
        <p:spPr>
          <a:xfrm>
            <a:off x="-4464000" y="-23814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1"/>
          <a:stretch/>
        </p:blipFill>
        <p:spPr>
          <a:xfrm>
            <a:off x="-4505400" y="-17398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2"/>
          <a:stretch/>
        </p:blipFill>
        <p:spPr>
          <a:xfrm>
            <a:off x="-4464000" y="-12193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3"/>
          <a:stretch/>
        </p:blipFill>
        <p:spPr>
          <a:xfrm>
            <a:off x="-4505400" y="-5778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4"/>
          <a:stretch/>
        </p:blipFill>
        <p:spPr>
          <a:xfrm>
            <a:off x="-4505400" y="-13320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5"/>
          <a:stretch/>
        </p:blipFill>
        <p:spPr>
          <a:xfrm>
            <a:off x="-4464000" y="3873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6"/>
          <a:stretch/>
        </p:blipFill>
        <p:spPr>
          <a:xfrm>
            <a:off x="-4505400" y="102888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7"/>
          <a:stretch/>
        </p:blipFill>
        <p:spPr>
          <a:xfrm>
            <a:off x="-4505400" y="14731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8"/>
          <a:stretch/>
        </p:blipFill>
        <p:spPr>
          <a:xfrm>
            <a:off x="-4505400" y="19177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9"/>
          <a:stretch/>
        </p:blipFill>
        <p:spPr>
          <a:xfrm>
            <a:off x="-4464000" y="24382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0"/>
          <a:stretch/>
        </p:blipFill>
        <p:spPr>
          <a:xfrm>
            <a:off x="-4505400" y="30798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1"/>
          <a:stretch/>
        </p:blipFill>
        <p:spPr>
          <a:xfrm>
            <a:off x="-4505400" y="352440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2"/>
          <a:stretch/>
        </p:blipFill>
        <p:spPr>
          <a:xfrm>
            <a:off x="-4505400" y="39686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3"/>
          <a:stretch/>
        </p:blipFill>
        <p:spPr>
          <a:xfrm>
            <a:off x="-4505400" y="44132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4"/>
          <a:stretch/>
        </p:blipFill>
        <p:spPr>
          <a:xfrm>
            <a:off x="-4464000" y="49338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5"/>
          <a:stretch/>
        </p:blipFill>
        <p:spPr>
          <a:xfrm>
            <a:off x="-4505400" y="55753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6"/>
          <a:stretch/>
        </p:blipFill>
        <p:spPr>
          <a:xfrm>
            <a:off x="-4505400" y="6019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7"/>
          <a:stretch/>
        </p:blipFill>
        <p:spPr>
          <a:xfrm>
            <a:off x="-4505400" y="64641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8"/>
          <a:stretch/>
        </p:blipFill>
        <p:spPr>
          <a:xfrm>
            <a:off x="-4505400" y="69087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9"/>
          <a:stretch/>
        </p:blipFill>
        <p:spPr>
          <a:xfrm>
            <a:off x="-4505400" y="73533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0"/>
          <a:stretch/>
        </p:blipFill>
        <p:spPr>
          <a:xfrm>
            <a:off x="-4505400" y="779796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1"/>
          <a:stretch/>
        </p:blipFill>
        <p:spPr>
          <a:xfrm>
            <a:off x="-4505400" y="82422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2"/>
          <a:stretch/>
        </p:blipFill>
        <p:spPr>
          <a:xfrm>
            <a:off x="-4505400" y="86868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3"/>
          <a:stretch/>
        </p:blipFill>
        <p:spPr>
          <a:xfrm>
            <a:off x="-4505400" y="91314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4"/>
          <a:stretch/>
        </p:blipFill>
        <p:spPr>
          <a:xfrm>
            <a:off x="-4505400" y="95756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5"/>
          <a:stretch/>
        </p:blipFill>
        <p:spPr>
          <a:xfrm>
            <a:off x="-4505400" y="1002024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6"/>
          <a:stretch/>
        </p:blipFill>
        <p:spPr>
          <a:xfrm>
            <a:off x="-4464000" y="10280520"/>
            <a:ext cx="114120" cy="103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7"/>
          <a:stretch/>
        </p:blipFill>
        <p:spPr>
          <a:xfrm>
            <a:off x="-4471920" y="10737720"/>
            <a:ext cx="2057400" cy="111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8"/>
          <a:stretch/>
        </p:blipFill>
        <p:spPr>
          <a:xfrm>
            <a:off x="-4471920" y="-3787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9"/>
          <a:stretch/>
        </p:blipFill>
        <p:spPr>
          <a:xfrm>
            <a:off x="-4471920" y="-33307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0"/>
          <a:stretch/>
        </p:blipFill>
        <p:spPr>
          <a:xfrm>
            <a:off x="-4471920" y="-261288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1"/>
          <a:stretch/>
        </p:blipFill>
        <p:spPr>
          <a:xfrm>
            <a:off x="-4471920" y="-2155680"/>
            <a:ext cx="11160" cy="10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2"/>
          <a:stretch/>
        </p:blipFill>
        <p:spPr>
          <a:xfrm>
            <a:off x="-4471920" y="-14382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3"/>
          <a:stretch/>
        </p:blipFill>
        <p:spPr>
          <a:xfrm>
            <a:off x="-4471920" y="-98100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4"/>
          <a:stretch/>
        </p:blipFill>
        <p:spPr>
          <a:xfrm>
            <a:off x="-4471920" y="-263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5"/>
          <a:stretch/>
        </p:blipFill>
        <p:spPr>
          <a:xfrm>
            <a:off x="-4471920" y="19368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6"/>
          <a:stretch/>
        </p:blipFill>
        <p:spPr>
          <a:xfrm>
            <a:off x="-4454640" y="660240"/>
            <a:ext cx="103320" cy="1144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7"/>
          <a:stretch/>
        </p:blipFill>
        <p:spPr>
          <a:xfrm>
            <a:off x="-4495680" y="1127160"/>
            <a:ext cx="102960" cy="1141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8"/>
          <a:stretch/>
        </p:blipFill>
        <p:spPr>
          <a:xfrm>
            <a:off x="4575240" y="3390840"/>
            <a:ext cx="92160" cy="111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9"/>
          <a:stretch/>
        </p:blipFill>
        <p:spPr>
          <a:xfrm>
            <a:off x="4808520" y="-37879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0"/>
          <a:srcRect l="0" t="0" r="71878" b="14580"/>
          <a:stretch/>
        </p:blipFill>
        <p:spPr>
          <a:xfrm>
            <a:off x="6781680" y="1828800"/>
            <a:ext cx="19065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487E-9AF5-440B-9FF5-FA59DFDD6CE5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854DC42-A512-407C-8710-1BCB426B59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563868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ardiac Muscle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510080" cy="47736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rcRect l="14019" t="13995" r="18793" b="18815"/>
          <a:stretch/>
        </p:blipFill>
        <p:spPr>
          <a:xfrm>
            <a:off x="5029200" y="152388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937E-919C-4CD7-AB5D-201070167EC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DE2AAEA-3D87-4AA3-BE10-1E56ECF5A0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2320" y="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3 types of musc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848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106668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moo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rdiac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keleta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6AF-5BE0-4E8D-921A-124466458B8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FB566-CBB8-495F-AA94-FAB98315E7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 Narrow"/>
              </a:rPr>
              <a:t>How many times a minute do you think your heart beats?</a:t>
            </a:r>
            <a:br>
              <a:rPr sz="5000"/>
            </a:br>
            <a:endParaRPr b="1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80880" y="5257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905120" y="26668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he cardiac muscles in your heart cause it to beat between 70 and 80 times per minute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6BA4-7625-463D-802E-52F32F81FB6C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D9C157-813D-436E-83A2-54E75D0209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 Narrow"/>
              </a:rPr>
              <a:t>What happens when we do not use our muscles?</a:t>
            </a:r>
            <a:endParaRPr b="1" lang="en-US" sz="5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>
            <a:off x="1905120" y="20574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Our muscles get smaller, which makes them weak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3886200"/>
            <a:ext cx="5867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3399"/>
                </a:solidFill>
                <a:latin typeface="Times New Roman"/>
              </a:rPr>
              <a:t>Can you think of some examples of when this may happen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430-D0E1-43CD-9804-F27013FEE28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610CF-1D66-4592-904F-56A50D5D1DC2}" type="datetime1">
              <a:rPr lang="en-US"/>
              <a:t>07/28/26</a:t>
            </a:fld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685800"/>
            <a:ext cx="7543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Did anyone see the Jets play on Sunday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419112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fore you start any activity, what should you do first?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819520"/>
            <a:ext cx="7543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Did anyone have a game this weekend that they played in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71629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Does anyone go to dance classes or karate?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0944-FE1B-4BA8-9AEE-1ADC3DBDA30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9B5EE8A-04CA-4AFA-A7E6-48F17DC2C8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4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53352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very important for us to take very good care of our bodies. We need to eat healthy foods and exercise our muscles regularly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512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209680" y="3124080"/>
          <a:ext cx="4419720" cy="32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124080"/>
                    <a:ext cx="441972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565-FA52-4190-8208-2F5CF4A25941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983A5-3AA7-4957-A06F-BE9858BEEC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34196" r="8647" b="0"/>
          <a:stretch/>
        </p:blipFill>
        <p:spPr>
          <a:xfrm>
            <a:off x="4648320" y="4267080"/>
            <a:ext cx="4343400" cy="2346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24008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52280" y="45720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8320" y="3276720"/>
            <a:ext cx="40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Storybook"/>
              </a:rPr>
              <a:t>STRETCH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105520" y="0"/>
            <a:ext cx="2857320" cy="320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321-F5F3-4C90-B287-5E39D5A6E0E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8416CBF-0711-4D22-8258-33DF70ADD4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 Narrow"/>
              </a:rPr>
              <a:t>Why should we stretch?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143000"/>
            <a:ext cx="12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3399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971800"/>
            <a:ext cx="1295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352680"/>
            <a:ext cx="1295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3366ff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1600200"/>
            <a:ext cx="129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9900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914400"/>
            <a:ext cx="1295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971800"/>
            <a:ext cx="12952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77F-57DC-429F-A5EC-8EC572DEFE4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AD07D-47BD-43A4-B235-1EFCA3E65B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at are some of the things that we use our muscles for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189396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752480"/>
            <a:ext cx="2286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l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i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752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g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ding bi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i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eez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ising your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125748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0" y="2743200"/>
            <a:ext cx="1752480" cy="10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A40-92B3-4F3A-B303-78B7BDCAB8F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D7F43-2905-4D10-A0D2-B560591CF498}" type="datetime1">
              <a:rPr lang="en-US"/>
              <a:t>07/28/26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Muscle Man"/>
          <p:cNvPicPr/>
          <p:nvPr/>
        </p:nvPicPr>
        <p:blipFill>
          <a:blip r:embed="rId1"/>
          <a:stretch/>
        </p:blipFill>
        <p:spPr>
          <a:xfrm>
            <a:off x="4495680" y="228600"/>
            <a:ext cx="4137120" cy="6400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609480"/>
            <a:ext cx="3200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out how many muscles do you think the human body ha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648320"/>
            <a:ext cx="30477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swer = 650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C55-C2A8-4163-8845-EDCDD40FDA2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3AB9E-B93C-4A6C-8136-D37DF8E4C44A}" type="datetime1">
              <a:rPr lang="en-US"/>
              <a:t>07/28/2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5392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71629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 Narrow"/>
              </a:rPr>
              <a:t>Where do we have muscles?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1337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 have muscles all over our body!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352680" y="2819520"/>
            <a:ext cx="4876920" cy="1404360"/>
            <a:chOff x="3352680" y="2819520"/>
            <a:chExt cx="4876920" cy="1404360"/>
          </a:xfrm>
        </p:grpSpPr>
        <p:sp>
          <p:nvSpPr>
            <p:cNvPr id="121" name=""/>
            <p:cNvSpPr/>
            <p:nvPr/>
          </p:nvSpPr>
          <p:spPr>
            <a:xfrm>
              <a:off x="6858000" y="28195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Fac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2680" y="3124080"/>
              <a:ext cx="2400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ongue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4120" y="3581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y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371600" y="2819520"/>
            <a:ext cx="3581280" cy="2623680"/>
            <a:chOff x="1371600" y="2819520"/>
            <a:chExt cx="3581280" cy="2623680"/>
          </a:xfrm>
        </p:grpSpPr>
        <p:sp>
          <p:nvSpPr>
            <p:cNvPr id="125" name=""/>
            <p:cNvSpPr/>
            <p:nvPr/>
          </p:nvSpPr>
          <p:spPr>
            <a:xfrm>
              <a:off x="1371600" y="28195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Le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1280" y="42670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rm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48006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Hear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5120" y="3809880"/>
              <a:ext cx="171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Hand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4419720"/>
            <a:ext cx="4648320" cy="1861560"/>
            <a:chOff x="3352680" y="4419720"/>
            <a:chExt cx="4648320" cy="1861560"/>
          </a:xfrm>
        </p:grpSpPr>
        <p:sp>
          <p:nvSpPr>
            <p:cNvPr id="130" name=""/>
            <p:cNvSpPr/>
            <p:nvPr/>
          </p:nvSpPr>
          <p:spPr>
            <a:xfrm>
              <a:off x="6629400" y="4419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ar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86400" y="51055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Neck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5638680"/>
              <a:ext cx="26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tomac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5D2D-DA13-4D23-98E6-9FED71FDB20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4A50CE4-2EA5-44E2-AC8C-1811A18382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 Narrow"/>
              </a:rPr>
              <a:t>How many muscles do you think are in our face and neck?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18819" t="-5550" r="-15100" b="7759"/>
          <a:stretch/>
        </p:blipFill>
        <p:spPr>
          <a:xfrm>
            <a:off x="304920" y="2362320"/>
            <a:ext cx="3886200" cy="4024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86200" y="205740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3399"/>
                </a:solidFill>
                <a:latin typeface="Times New Roman"/>
              </a:rPr>
              <a:t>Our face and neck contain about one-fourth of the muscles in our body.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65640"/>
            <a:ext cx="41911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9900"/>
                </a:solidFill>
                <a:latin typeface="Times New Roman"/>
              </a:rPr>
              <a:t>That is about 162 muscles.</a:t>
            </a:r>
            <a:r>
              <a:rPr b="0" lang="en-US" sz="60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202-7FDD-4590-8EAB-3463C4AFEF2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FF777-43BE-4A02-BE5D-FF4FB2A6C6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tsd webmaster</cp:lastModifiedBy>
  <cp:lastPrinted>2009-04-22T19:24:48Z</cp:lastPrinted>
  <dcterms:modified xsi:type="dcterms:W3CDTF">2009-10-13T03:08:42Z</dcterms:modified>
  <cp:revision>16</cp:revision>
  <dc:subject/>
  <dc:title>PowerPoint Presentation</dc:title>
</cp:coreProperties>
</file>